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BA1-D631-4395-9C0D-2AAED218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5EE-D71E-402C-9AE1-90FCB5B5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F79-20FA-4D4F-A924-8ACCAB97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9A5-1DD6-42DF-BB4F-A6F2E6BC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2D6-9D04-41D9-B6AF-0CBBA47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97B-5DA2-4E21-B9B6-F3B44EF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947-D57D-4D3C-B976-F65D5E95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82C-C8E7-4A29-B395-7BCC164F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1BC-58F2-497D-9DBB-B874BCF1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AEC-C934-4FCB-8F35-46545B1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482-4339-4BBE-960C-792EF16C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72B-5CE2-41F2-8B4F-14D2C963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EA1-F49B-4A83-8EC1-E768F791F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Showcard Gothic"/>
              </a:rPr>
              <a:t>Amerikaren aurkikunt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hikari Corral eta Maria Luisa Piñ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ain zapaltzen ari naizen lurralde berri hau, Amerika deituko di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4753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42920" y="2786040"/>
            <a:ext cx="568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maiera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ustuaren  3 da ,  palos de la fronterako portuan gaude , eta gaur  indiara abiatuko g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40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los de la fronteratik atera gara eta  portua horaindik ikus dezakegu baina dembora gutxi arte  gero dena Itxaso barrena izando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7530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ain kanariasera goaz, elikagai gehiago bilatzera eta itsasontziak konpontz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anaria Uharteetan gaude. Elikagai pila lortu ditugu eta itsasontziak konpontzen ari dira. Ezin dugu janari freskua erosi, bestela itsasontzian ustelduko 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680000" cy="312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tutik atera gara oraingoan  ziur nago indiara ailegatuko garel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040360" cy="254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ian nago eta  lurra ikus dezaket!!! Baina hori ….. ez da india zer izango ote 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1130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9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ingura bota mutilok!!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r berri bat aurkitu dugu eta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4164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0:40:04Z</dcterms:created>
  <dc:creator>ik015111zz</dc:creator>
  <dc:description/>
  <dc:language>en-US</dc:language>
  <cp:lastModifiedBy>ik015111zz</cp:lastModifiedBy>
  <dcterms:modified xsi:type="dcterms:W3CDTF">2012-06-21T11:16:01Z</dcterms:modified>
  <cp:revision>2</cp:revision>
  <dc:subject/>
  <dc:title>Amerikaren aurkikuntza</dc:title>
</cp:coreProperties>
</file>